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D3FE-22E2-4766-9B17-569A4B90D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C1B2-030F-4725-9181-583A69D99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3F59-95D6-4E14-BFA0-D9CF2CC54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7E0F-AD6C-441A-8170-CA0817656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06ED6-EE9C-4069-A1D4-330CEEC30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FD22B-E644-487F-A2BE-0C134C75C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37A78-5CD4-47D4-A055-5A1E53D40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3644D-66AF-4F9C-9FC1-E14906FC9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C5335-D499-4872-A7A2-D9AA1808F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AF3F6-FD46-46B9-A9FC-499DCE16D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038EC-B2A3-4694-8C08-2F472242C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D083-2E4E-4D78-8DA6-B1E83A80A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099F4-7295-46A9-A8E0-C3A10049E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63299-E09A-4B42-AB46-780DA1130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F4118-E20F-4F12-B617-0C1728C3E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B0D9D-0F54-46A5-B78B-C46F6CB13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9287B-4533-4CEB-BFC6-8DFA3D729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6E27-59F5-4CDA-AC01-D0F721EF6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0179-34E7-4F04-9E66-3B5EA8E00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7D31-970A-432C-BC86-73C5BEB58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4DAC-8BEE-4592-A9BC-87FBC06F9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FF0A-D54E-43B1-999E-C71B3EF36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C06D-672A-4D52-BFE2-718AAF6F2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9CD9-A66F-4BA9-B6EB-568F7F91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64B98-E1E4-4465-B016-13C677E25711}" type="datetime">
              <a:rPr b="0" lang="zh-CN" sz="1000" spc="-1" strike="noStrike">
                <a:solidFill>
                  <a:srgbClr val="000000"/>
                </a:solidFill>
                <a:latin typeface="Verdana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01805-4B7E-4774-9222-F1A2A6DBB7B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4C4E4-534D-47C9-90D1-BDD81078949D}" type="datetime">
              <a:rPr b="0" lang="zh-CN" sz="1000" spc="-1" strike="noStrike">
                <a:solidFill>
                  <a:srgbClr val="000000"/>
                </a:solidFill>
                <a:latin typeface="Verdana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FF680-9BD0-4D55-9399-B3C0554A0CF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FBCBB-C3D2-48F0-82A8-6C703A95445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4920" y="907560"/>
            <a:ext cx="799308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c0000"/>
                </a:solidFill>
                <a:latin typeface="黑体"/>
                <a:ea typeface="黑体"/>
              </a:rPr>
              <a:t>第四章 消费者的态度的形成与改变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834920" y="2781360"/>
            <a:ext cx="6624360" cy="275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节 消费者的态度与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二节 消费者态度的形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三节 消费者态度的改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四节  消费者态度的测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75256-5F1F-4007-8DB0-95A71C24C08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二节 消费者态度的形成与理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618920" y="1785600"/>
            <a:ext cx="711036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消费者态度形成的影响因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消费者态度形成的相关理论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态度与消费者行为的关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F88E6-7732-4E1D-95CB-17A5B01F2D4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态度形成的影响因素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258560" y="1719360"/>
            <a:ext cx="74278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对产品的观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获得的产品信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人经验与相关群体、大众传媒的影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因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2E0DD-C51B-4599-A819-851819CFD38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7543800" cy="65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态度形成的影响因素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4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5" name="画布 150"/>
          <p:cNvGrpSpPr/>
          <p:nvPr/>
        </p:nvGrpSpPr>
        <p:grpSpPr>
          <a:xfrm>
            <a:off x="900000" y="1197000"/>
            <a:ext cx="7632720" cy="5040360"/>
            <a:chOff x="900000" y="1197000"/>
            <a:chExt cx="7632720" cy="5040360"/>
          </a:xfrm>
        </p:grpSpPr>
        <p:sp>
          <p:nvSpPr>
            <p:cNvPr id="246" name="AutoShape 33"/>
            <p:cNvSpPr/>
            <p:nvPr/>
          </p:nvSpPr>
          <p:spPr>
            <a:xfrm>
              <a:off x="900000" y="1197000"/>
              <a:ext cx="7632720" cy="50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47" name="Group 126"/>
            <p:cNvGrpSpPr/>
            <p:nvPr/>
          </p:nvGrpSpPr>
          <p:grpSpPr>
            <a:xfrm>
              <a:off x="1072800" y="1336680"/>
              <a:ext cx="7459560" cy="4760640"/>
              <a:chOff x="1072800" y="1336680"/>
              <a:chExt cx="7459560" cy="4760640"/>
            </a:xfrm>
          </p:grpSpPr>
          <p:sp>
            <p:nvSpPr>
              <p:cNvPr id="248" name="Rectangle 127"/>
              <p:cNvSpPr/>
              <p:nvPr/>
            </p:nvSpPr>
            <p:spPr>
              <a:xfrm>
                <a:off x="3848760" y="4756320"/>
                <a:ext cx="4336920" cy="419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调节其余的信念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" name="Rectangle 128"/>
              <p:cNvSpPr/>
              <p:nvPr/>
            </p:nvSpPr>
            <p:spPr>
              <a:xfrm>
                <a:off x="1073160" y="4556880"/>
                <a:ext cx="2255040" cy="56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态度            改变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0" name="Rectangle 129"/>
              <p:cNvSpPr/>
              <p:nvPr/>
            </p:nvSpPr>
            <p:spPr>
              <a:xfrm>
                <a:off x="1073160" y="5677200"/>
                <a:ext cx="2255040" cy="420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行为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1" name="AutoShape 130"/>
              <p:cNvSpPr/>
              <p:nvPr/>
            </p:nvSpPr>
            <p:spPr>
              <a:xfrm rot="2508600">
                <a:off x="2287080" y="4656600"/>
                <a:ext cx="357480" cy="381240"/>
              </a:xfrm>
              <a:prstGeom prst="rtTriangl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" name="Rectangle 131"/>
              <p:cNvSpPr/>
              <p:nvPr/>
            </p:nvSpPr>
            <p:spPr>
              <a:xfrm>
                <a:off x="1593720" y="1336680"/>
                <a:ext cx="866160" cy="419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背景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" name="Rectangle 132"/>
              <p:cNvSpPr/>
              <p:nvPr/>
            </p:nvSpPr>
            <p:spPr>
              <a:xfrm>
                <a:off x="3847680" y="1336680"/>
                <a:ext cx="1215360" cy="419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文化影响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4" name="Rectangle 133"/>
              <p:cNvSpPr/>
              <p:nvPr/>
            </p:nvSpPr>
            <p:spPr>
              <a:xfrm>
                <a:off x="2633400" y="2036520"/>
                <a:ext cx="866160" cy="420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教养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55" name=""/>
              <p:cNvGrpSpPr/>
              <p:nvPr/>
            </p:nvGrpSpPr>
            <p:grpSpPr>
              <a:xfrm>
                <a:off x="2027160" y="1756440"/>
                <a:ext cx="1040040" cy="280440"/>
                <a:chOff x="2027160" y="1756440"/>
                <a:chExt cx="1040040" cy="280440"/>
              </a:xfrm>
            </p:grpSpPr>
            <p:cxnSp>
              <p:nvCxnSpPr>
                <p:cNvPr id="256" name="AutoShape 134"/>
                <p:cNvCxnSpPr/>
                <p:nvPr/>
              </p:nvCxnSpPr>
              <p:spPr>
                <a:xfrm>
                  <a:off x="2027160" y="1756440"/>
                  <a:ext cx="1040400" cy="2808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57" name=""/>
                <p:cNvSpPr txBox="1"/>
                <p:nvPr/>
              </p:nvSpPr>
              <p:spPr>
                <a:xfrm rot="16200000">
                  <a:off x="2406960" y="1376640"/>
                  <a:ext cx="280080" cy="103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2981160" y="1756080"/>
                <a:ext cx="1474920" cy="140040"/>
                <a:chOff x="2981160" y="1756080"/>
                <a:chExt cx="1474920" cy="140040"/>
              </a:xfrm>
            </p:grpSpPr>
            <p:cxnSp>
              <p:nvCxnSpPr>
                <p:cNvPr id="259" name="AutoShape 135"/>
                <p:cNvCxnSpPr/>
                <p:nvPr/>
              </p:nvCxnSpPr>
              <p:spPr>
                <a:xfrm flipH="1">
                  <a:off x="2981160" y="1756080"/>
                  <a:ext cx="1475280" cy="1404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260" name=""/>
                <p:cNvSpPr txBox="1"/>
                <p:nvPr/>
              </p:nvSpPr>
              <p:spPr>
                <a:xfrm rot="5400000">
                  <a:off x="3648600" y="1088640"/>
                  <a:ext cx="140040" cy="147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61" name="Group 136"/>
              <p:cNvGrpSpPr/>
              <p:nvPr/>
            </p:nvGrpSpPr>
            <p:grpSpPr>
              <a:xfrm>
                <a:off x="3501720" y="3521880"/>
                <a:ext cx="5030640" cy="807840"/>
                <a:chOff x="3501720" y="3521880"/>
                <a:chExt cx="5030640" cy="807840"/>
              </a:xfrm>
            </p:grpSpPr>
            <p:sp>
              <p:nvSpPr>
                <p:cNvPr id="262" name="Rectangle 137"/>
                <p:cNvSpPr/>
                <p:nvPr/>
              </p:nvSpPr>
              <p:spPr>
                <a:xfrm>
                  <a:off x="3501720" y="3910680"/>
                  <a:ext cx="1213920" cy="419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观察和教育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3" name="Rectangle 138"/>
                <p:cNvSpPr/>
                <p:nvPr/>
              </p:nvSpPr>
              <p:spPr>
                <a:xfrm>
                  <a:off x="4762080" y="3910680"/>
                  <a:ext cx="1167840" cy="419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个人体验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4" name="Rectangle 139"/>
                <p:cNvSpPr/>
                <p:nvPr/>
              </p:nvSpPr>
              <p:spPr>
                <a:xfrm>
                  <a:off x="6023520" y="3910680"/>
                  <a:ext cx="1120680" cy="419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朋友影响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5" name="Rectangle 140"/>
                <p:cNvSpPr/>
                <p:nvPr/>
              </p:nvSpPr>
              <p:spPr>
                <a:xfrm>
                  <a:off x="7284240" y="3910680"/>
                  <a:ext cx="1248120" cy="419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重要事件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108320" y="3521880"/>
                  <a:ext cx="3800520" cy="389880"/>
                  <a:chOff x="4108320" y="3521880"/>
                  <a:chExt cx="3800520" cy="389880"/>
                </a:xfrm>
              </p:grpSpPr>
              <p:cxnSp>
                <p:nvCxnSpPr>
                  <p:cNvPr id="267" name="AutoShape 141"/>
                  <p:cNvCxnSpPr/>
                  <p:nvPr/>
                </p:nvCxnSpPr>
                <p:spPr>
                  <a:xfrm>
                    <a:off x="4108320" y="3910680"/>
                    <a:ext cx="380052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268" name=""/>
                  <p:cNvSpPr txBox="1"/>
                  <p:nvPr/>
                </p:nvSpPr>
                <p:spPr>
                  <a:xfrm rot="16200000">
                    <a:off x="6008400" y="2010960"/>
                    <a:ext cx="720" cy="3799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69" name=""/>
                <p:cNvGrpSpPr/>
                <p:nvPr/>
              </p:nvGrpSpPr>
              <p:grpSpPr>
                <a:xfrm>
                  <a:off x="5346000" y="3521880"/>
                  <a:ext cx="1238760" cy="389880"/>
                  <a:chOff x="5346000" y="3521880"/>
                  <a:chExt cx="1238760" cy="389880"/>
                </a:xfrm>
              </p:grpSpPr>
              <p:cxnSp>
                <p:nvCxnSpPr>
                  <p:cNvPr id="270" name="AutoShape 142"/>
                  <p:cNvCxnSpPr/>
                  <p:nvPr/>
                </p:nvCxnSpPr>
                <p:spPr>
                  <a:xfrm>
                    <a:off x="5346000" y="3910680"/>
                    <a:ext cx="123912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271" name=""/>
                  <p:cNvSpPr txBox="1"/>
                  <p:nvPr/>
                </p:nvSpPr>
                <p:spPr>
                  <a:xfrm rot="16200000">
                    <a:off x="5964840" y="3291840"/>
                    <a:ext cx="720" cy="1238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sp>
            <p:nvSpPr>
              <p:cNvPr id="272" name="Line 143"/>
              <p:cNvSpPr/>
              <p:nvPr/>
            </p:nvSpPr>
            <p:spPr>
              <a:xfrm>
                <a:off x="4195800" y="4336200"/>
                <a:ext cx="720" cy="42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73" name="Group 144"/>
              <p:cNvGrpSpPr/>
              <p:nvPr/>
            </p:nvGrpSpPr>
            <p:grpSpPr>
              <a:xfrm>
                <a:off x="1072800" y="2709720"/>
                <a:ext cx="3990240" cy="700920"/>
                <a:chOff x="1072800" y="2709720"/>
                <a:chExt cx="3990240" cy="700920"/>
              </a:xfrm>
            </p:grpSpPr>
            <p:sp>
              <p:nvSpPr>
                <p:cNvPr id="274" name="Line 145"/>
                <p:cNvSpPr/>
                <p:nvPr/>
              </p:nvSpPr>
              <p:spPr>
                <a:xfrm>
                  <a:off x="3501720" y="34095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5" name="Rectangle 146"/>
                <p:cNvSpPr/>
                <p:nvPr/>
              </p:nvSpPr>
              <p:spPr>
                <a:xfrm>
                  <a:off x="1073160" y="2709720"/>
                  <a:ext cx="3989880" cy="699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信念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不会被改变的信念      可以被改变的信念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76" name=""/>
                <p:cNvGrpSpPr/>
                <p:nvPr/>
              </p:nvGrpSpPr>
              <p:grpSpPr>
                <a:xfrm>
                  <a:off x="1072800" y="3059640"/>
                  <a:ext cx="3990240" cy="1080"/>
                  <a:chOff x="1072800" y="3059640"/>
                  <a:chExt cx="3990240" cy="1080"/>
                </a:xfrm>
              </p:grpSpPr>
              <p:cxnSp>
                <p:nvCxnSpPr>
                  <p:cNvPr id="277" name="AutoShape 147"/>
                  <p:cNvCxnSpPr/>
                  <p:nvPr/>
                </p:nvCxnSpPr>
                <p:spPr>
                  <a:xfrm>
                    <a:off x="1072800" y="3059640"/>
                    <a:ext cx="399060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278" name=""/>
                  <p:cNvSpPr txBox="1"/>
                  <p:nvPr/>
                </p:nvSpPr>
                <p:spPr>
                  <a:xfrm>
                    <a:off x="1072800" y="3059640"/>
                    <a:ext cx="398988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79" name=""/>
                <p:cNvGrpSpPr/>
                <p:nvPr/>
              </p:nvGrpSpPr>
              <p:grpSpPr>
                <a:xfrm>
                  <a:off x="3068280" y="3409560"/>
                  <a:ext cx="1080" cy="1080"/>
                  <a:chOff x="3068280" y="3409560"/>
                  <a:chExt cx="1080" cy="1080"/>
                </a:xfrm>
              </p:grpSpPr>
              <p:cxnSp>
                <p:nvCxnSpPr>
                  <p:cNvPr id="280" name="AutoShape 148"/>
                  <p:cNvCxnSpPr/>
                  <p:nvPr/>
                </p:nvCxnSpPr>
                <p:spPr>
                  <a:xfrm>
                    <a:off x="3068280" y="3409560"/>
                    <a:ext cx="144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281" name=""/>
                  <p:cNvSpPr txBox="1"/>
                  <p:nvPr/>
                </p:nvSpPr>
                <p:spPr>
                  <a:xfrm>
                    <a:off x="3068280" y="3409560"/>
                    <a:ext cx="72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282" name="Line 149"/>
                <p:cNvSpPr/>
                <p:nvPr/>
              </p:nvSpPr>
              <p:spPr>
                <a:xfrm>
                  <a:off x="2981160" y="3129480"/>
                  <a:ext cx="720" cy="28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83" name="Line 151"/>
              <p:cNvSpPr/>
              <p:nvPr/>
            </p:nvSpPr>
            <p:spPr>
              <a:xfrm>
                <a:off x="2113920" y="3436560"/>
                <a:ext cx="0" cy="112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4" name="Line 152"/>
              <p:cNvSpPr/>
              <p:nvPr/>
            </p:nvSpPr>
            <p:spPr>
              <a:xfrm>
                <a:off x="2113920" y="5117040"/>
                <a:ext cx="0" cy="56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5" name="Line 153"/>
              <p:cNvSpPr/>
              <p:nvPr/>
            </p:nvSpPr>
            <p:spPr>
              <a:xfrm>
                <a:off x="5410080" y="4330800"/>
                <a:ext cx="1080" cy="42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6" name="Line 154"/>
              <p:cNvSpPr/>
              <p:nvPr/>
            </p:nvSpPr>
            <p:spPr>
              <a:xfrm>
                <a:off x="8012160" y="4317120"/>
                <a:ext cx="1080" cy="42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7" name="Line 155"/>
              <p:cNvSpPr/>
              <p:nvPr/>
            </p:nvSpPr>
            <p:spPr>
              <a:xfrm>
                <a:off x="6624360" y="4330800"/>
                <a:ext cx="1080" cy="42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8" name="Line 156"/>
              <p:cNvSpPr/>
              <p:nvPr/>
            </p:nvSpPr>
            <p:spPr>
              <a:xfrm>
                <a:off x="4369320" y="3436560"/>
                <a:ext cx="720" cy="15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3067920" y="2475720"/>
              <a:ext cx="720" cy="234360"/>
              <a:chOff x="3067920" y="2475720"/>
              <a:chExt cx="720" cy="234360"/>
            </a:xfrm>
          </p:grpSpPr>
          <p:cxnSp>
            <p:nvCxnSpPr>
              <p:cNvPr id="290" name="直接箭头连接符 248"/>
              <p:cNvCxnSpPr/>
              <p:nvPr/>
            </p:nvCxnSpPr>
            <p:spPr>
              <a:xfrm>
                <a:off x="3067920" y="2475720"/>
                <a:ext cx="1080" cy="23472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91" name=""/>
              <p:cNvSpPr txBox="1"/>
              <p:nvPr/>
            </p:nvSpPr>
            <p:spPr>
              <a:xfrm>
                <a:off x="3067920" y="2475720"/>
                <a:ext cx="360" cy="234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E2B92-396B-485F-B671-8C75F9A49D8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形成的相关理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认知理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凯尔曼提出了态度形成的认知三阶段理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      ♣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模仿或服从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      ♣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同化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      ♣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内化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5BF01-634F-49D5-A516-20F60565D2F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7543800" cy="79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形成的相关理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68360" y="11966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平衡理论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Heid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2" descr=""/>
          <p:cNvPicPr/>
          <p:nvPr/>
        </p:nvPicPr>
        <p:blipFill>
          <a:blip r:embed="rId1"/>
          <a:stretch/>
        </p:blipFill>
        <p:spPr>
          <a:xfrm>
            <a:off x="727200" y="1052640"/>
            <a:ext cx="8416800" cy="5616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3FD82-FAE9-42A2-BC0F-8CC3DC4C5C6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543800" cy="87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形成的相关理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53964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认知失调理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认知失调是指某人在做出决定、采取行动或者接触到一些有违原先信念、情感或价值的信息之后所体验到的冲突状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当人们的态度与行为不一致，并且无法对自己的行为找出外部理由时，常常会引起个体的心理紧张，为了克服这种由认知失调引起的紧张，人们需要采取多种方法，以减少自己的认知失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41864-93B6-4F70-A351-4227D1F712A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形成的相关理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1763280" y="1719360"/>
            <a:ext cx="692316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自我知觉理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归因理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社会判断理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和谐理论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205CC-F054-418B-AB45-B0BE89902BF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影响态度与行为关系的因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可获得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态度是行为的预测指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时间因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60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态度与消费者行为的关系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0823C-B606-4820-923D-7CCF4564ACC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三节 消费者态度的改变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1619280" y="2133360"/>
            <a:ext cx="706752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消费者态度的改变与影响因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消费者态度的改变策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5B835-86FB-4A15-AAEB-C95FC6F5353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8400" y="142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态度的改变与影响因素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28760" y="178596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态度改变的类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3"/>
          <p:cNvSpPr/>
          <p:nvPr/>
        </p:nvSpPr>
        <p:spPr>
          <a:xfrm>
            <a:off x="5286240" y="2286000"/>
            <a:ext cx="8229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Rectangle 3"/>
          <p:cNvSpPr/>
          <p:nvPr/>
        </p:nvSpPr>
        <p:spPr>
          <a:xfrm>
            <a:off x="1187280" y="2492280"/>
            <a:ext cx="772668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性质改变和程度改变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现有消费者态度改变和潜在消费者态度改变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购前态度改变和购后态度改变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D3011-6B51-4802-855B-E1F4B219285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一节 消费者态度的概念与功能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403280" y="1719360"/>
            <a:ext cx="7283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消费者态度的含义与特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消费者态度的构成与功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消费者态度的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3BCA6-4E6E-4B60-B199-EDE5552CFA1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28400" y="142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态度的改变与影响因素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28760" y="178596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态度改变的影响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3"/>
          <p:cNvSpPr/>
          <p:nvPr/>
        </p:nvSpPr>
        <p:spPr>
          <a:xfrm>
            <a:off x="5286240" y="2286000"/>
            <a:ext cx="8229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1187280" y="2492280"/>
            <a:ext cx="77266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消费者群体的影响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消费者性质的影响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1979640" y="4005360"/>
            <a:ext cx="7726320" cy="17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原有态度与目标态度之间的距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对产品的参与程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态度的强弱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275EB-3AE6-4C0D-9C2F-6C11DBC5D14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的改变策略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115640" y="1856880"/>
            <a:ext cx="761364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霍夫兰德和詹尼斯的态度改变说服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精细加工可能性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广告导向的态度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C4285-83C2-4EC7-A2AD-FB7F2712F91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754380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的改变策略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94920" y="764640"/>
            <a:ext cx="761364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霍夫兰德和詹尼斯的态度改变说服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2" descr=""/>
          <p:cNvPicPr/>
          <p:nvPr/>
        </p:nvPicPr>
        <p:blipFill>
          <a:blip r:embed="rId1"/>
          <a:stretch/>
        </p:blipFill>
        <p:spPr>
          <a:xfrm>
            <a:off x="900000" y="1989000"/>
            <a:ext cx="7813800" cy="3816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FE117-F6F5-42E2-89D8-CD7C5CC851F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754380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的改变策略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94920" y="620640"/>
            <a:ext cx="761364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2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精细加工可能性模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35" descr=""/>
          <p:cNvPicPr/>
          <p:nvPr/>
        </p:nvPicPr>
        <p:blipFill>
          <a:blip r:embed="rId1"/>
          <a:stretch/>
        </p:blipFill>
        <p:spPr>
          <a:xfrm>
            <a:off x="1835280" y="1125360"/>
            <a:ext cx="6769080" cy="54802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16AC2-632B-442C-81D0-D85C8A858E4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754380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的改变策略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94920" y="764640"/>
            <a:ext cx="761364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广告导向的态度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1" descr=""/>
          <p:cNvPicPr/>
          <p:nvPr/>
        </p:nvPicPr>
        <p:blipFill>
          <a:blip r:embed="rId1"/>
          <a:stretch/>
        </p:blipFill>
        <p:spPr>
          <a:xfrm>
            <a:off x="700200" y="1989000"/>
            <a:ext cx="8443800" cy="4321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349FA-1C01-4015-A46E-F7DF9E7EB82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四节 消费者态度的测量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403280" y="1719360"/>
            <a:ext cx="7283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态度测量的定义与内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态度测量的方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47A88-203C-43C7-BB6B-1625C21C043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态度测量的定义与内容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763280" y="1844640"/>
            <a:ext cx="69231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测量认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测量情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测量行为倾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0606D-F65E-455A-BA95-21388800FE1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态度测量的方法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0" name="Rectangle 3"/>
          <p:cNvSpPr/>
          <p:nvPr/>
        </p:nvSpPr>
        <p:spPr>
          <a:xfrm>
            <a:off x="1403280" y="1785960"/>
            <a:ext cx="732636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量表测量法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2280" indent="-34776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瑟斯通量表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Thurstone Scale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2280" indent="-34776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利克特量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非量表测量法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2280" indent="-34776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面谈法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2280" indent="-34776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现场观察法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4C444-2754-4AB1-9573-7225CB1F4D6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态度的含义与特征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态度的定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态度是后天学到的偏好，它以一贯有利或不利的方式对一个对象或一类对象做出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Gordon Allport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态度的特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稳定性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复杂性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矢量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929D8-1737-437B-8372-296DE6CF45A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的态度构成与功能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68000" y="1557360"/>
            <a:ext cx="8435880" cy="48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态度的构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情感成分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们对某个事物的感情或情绪性反应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认知成分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体对于事物的具体或整体的信念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行为成分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体对某事物或某项活动做出的特定反应的倾向，是根据人们对某一对象所表现出来的行为的观察而形成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E7E51-D7FC-4137-9CE4-F6A3BD3C580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7543800" cy="7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的态度构成与功能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68000" y="980640"/>
            <a:ext cx="843588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态度的构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0" name="画布 192"/>
          <p:cNvGrpSpPr/>
          <p:nvPr/>
        </p:nvGrpSpPr>
        <p:grpSpPr>
          <a:xfrm>
            <a:off x="755640" y="2060640"/>
            <a:ext cx="7561440" cy="3816000"/>
            <a:chOff x="755640" y="2060640"/>
            <a:chExt cx="7561440" cy="3816000"/>
          </a:xfrm>
        </p:grpSpPr>
        <p:sp>
          <p:nvSpPr>
            <p:cNvPr id="171" name="AutoShape 28"/>
            <p:cNvSpPr/>
            <p:nvPr/>
          </p:nvSpPr>
          <p:spPr>
            <a:xfrm>
              <a:off x="755640" y="2060640"/>
              <a:ext cx="7561440" cy="38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2" name="组合 224"/>
            <p:cNvGrpSpPr/>
            <p:nvPr/>
          </p:nvGrpSpPr>
          <p:grpSpPr>
            <a:xfrm>
              <a:off x="755640" y="2103480"/>
              <a:ext cx="7561440" cy="3773160"/>
              <a:chOff x="755640" y="2103480"/>
              <a:chExt cx="7561440" cy="3773160"/>
            </a:xfrm>
          </p:grpSpPr>
          <p:sp>
            <p:nvSpPr>
              <p:cNvPr id="173" name="Rectangle 159"/>
              <p:cNvSpPr/>
              <p:nvPr/>
            </p:nvSpPr>
            <p:spPr>
              <a:xfrm>
                <a:off x="6841800" y="2103480"/>
                <a:ext cx="1475280" cy="1148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基于认知信息加工的态度</a:t>
                </a:r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74" name="Group 160"/>
              <p:cNvGrpSpPr/>
              <p:nvPr/>
            </p:nvGrpSpPr>
            <p:grpSpPr>
              <a:xfrm>
                <a:off x="755640" y="2431440"/>
                <a:ext cx="7561080" cy="3445200"/>
                <a:chOff x="755640" y="2431440"/>
                <a:chExt cx="7561080" cy="3445200"/>
              </a:xfrm>
            </p:grpSpPr>
            <p:sp>
              <p:nvSpPr>
                <p:cNvPr id="175" name="Oval 161"/>
                <p:cNvSpPr/>
                <p:nvPr/>
              </p:nvSpPr>
              <p:spPr>
                <a:xfrm>
                  <a:off x="755640" y="2533320"/>
                  <a:ext cx="1106640" cy="5000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认知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6" name="Rectangle 162"/>
                <p:cNvSpPr/>
                <p:nvPr/>
              </p:nvSpPr>
              <p:spPr>
                <a:xfrm>
                  <a:off x="4997160" y="2511360"/>
                  <a:ext cx="1105200" cy="501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行为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7" name="AutoShape 163"/>
                <p:cNvSpPr/>
                <p:nvPr/>
              </p:nvSpPr>
              <p:spPr>
                <a:xfrm>
                  <a:off x="2784240" y="2431440"/>
                  <a:ext cx="1290960" cy="664920"/>
                </a:xfrm>
                <a:prstGeom prst="diamond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感情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8" name="Oval 164"/>
                <p:cNvSpPr/>
                <p:nvPr/>
              </p:nvSpPr>
              <p:spPr>
                <a:xfrm>
                  <a:off x="755640" y="3761280"/>
                  <a:ext cx="1106640" cy="5000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认知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9" name="Rectangle 165"/>
                <p:cNvSpPr/>
                <p:nvPr/>
              </p:nvSpPr>
              <p:spPr>
                <a:xfrm>
                  <a:off x="2784240" y="3761280"/>
                  <a:ext cx="1105200" cy="501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行为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0" name="AutoShape 166"/>
                <p:cNvSpPr/>
                <p:nvPr/>
              </p:nvSpPr>
              <p:spPr>
                <a:xfrm>
                  <a:off x="4812840" y="3674880"/>
                  <a:ext cx="1288800" cy="664920"/>
                </a:xfrm>
                <a:prstGeom prst="diamond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感情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1" name="Rectangle 167"/>
                <p:cNvSpPr/>
                <p:nvPr/>
              </p:nvSpPr>
              <p:spPr>
                <a:xfrm>
                  <a:off x="6841440" y="3429000"/>
                  <a:ext cx="1475280" cy="1165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基于行为信息加工的态度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2" name="Rectangle 168"/>
                <p:cNvSpPr/>
                <p:nvPr/>
              </p:nvSpPr>
              <p:spPr>
                <a:xfrm>
                  <a:off x="2784240" y="5037120"/>
                  <a:ext cx="1105200" cy="501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行为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3" name="AutoShape 169"/>
                <p:cNvSpPr/>
                <p:nvPr/>
              </p:nvSpPr>
              <p:spPr>
                <a:xfrm>
                  <a:off x="755640" y="4957200"/>
                  <a:ext cx="1286640" cy="663840"/>
                </a:xfrm>
                <a:prstGeom prst="diamond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感情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4" name="Rectangle 170"/>
                <p:cNvSpPr/>
                <p:nvPr/>
              </p:nvSpPr>
              <p:spPr>
                <a:xfrm>
                  <a:off x="6841440" y="4710960"/>
                  <a:ext cx="1475280" cy="1165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基于感情信息加工的态度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185" name=""/>
                <p:cNvGrpSpPr/>
                <p:nvPr/>
              </p:nvGrpSpPr>
              <p:grpSpPr>
                <a:xfrm>
                  <a:off x="4074480" y="2762640"/>
                  <a:ext cx="922680" cy="1080"/>
                  <a:chOff x="4074480" y="2762640"/>
                  <a:chExt cx="922680" cy="1080"/>
                </a:xfrm>
              </p:grpSpPr>
              <p:cxnSp>
                <p:nvCxnSpPr>
                  <p:cNvPr id="186" name="AutoShape 171"/>
                  <p:cNvCxnSpPr/>
                  <p:nvPr/>
                </p:nvCxnSpPr>
                <p:spPr>
                  <a:xfrm flipV="1">
                    <a:off x="4074840" y="2762640"/>
                    <a:ext cx="92268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187" name=""/>
                  <p:cNvSpPr txBox="1"/>
                  <p:nvPr/>
                </p:nvSpPr>
                <p:spPr>
                  <a:xfrm rot="10800000">
                    <a:off x="4074480" y="2763000"/>
                    <a:ext cx="92196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88" name=""/>
                <p:cNvGrpSpPr/>
                <p:nvPr/>
              </p:nvGrpSpPr>
              <p:grpSpPr>
                <a:xfrm>
                  <a:off x="1861560" y="2763360"/>
                  <a:ext cx="922680" cy="20520"/>
                  <a:chOff x="1861560" y="2763360"/>
                  <a:chExt cx="922680" cy="20520"/>
                </a:xfrm>
              </p:grpSpPr>
              <p:cxnSp>
                <p:nvCxnSpPr>
                  <p:cNvPr id="189" name="AutoShape 172"/>
                  <p:cNvCxnSpPr/>
                  <p:nvPr/>
                </p:nvCxnSpPr>
                <p:spPr>
                  <a:xfrm flipV="1">
                    <a:off x="1861920" y="2763360"/>
                    <a:ext cx="922680" cy="208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190" name=""/>
                  <p:cNvSpPr txBox="1"/>
                  <p:nvPr/>
                </p:nvSpPr>
                <p:spPr>
                  <a:xfrm rot="10800000">
                    <a:off x="1861560" y="2763720"/>
                    <a:ext cx="921960" cy="20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26640" bIns="-266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91" name=""/>
                <p:cNvGrpSpPr/>
                <p:nvPr/>
              </p:nvGrpSpPr>
              <p:grpSpPr>
                <a:xfrm>
                  <a:off x="6102720" y="2750760"/>
                  <a:ext cx="739080" cy="11880"/>
                  <a:chOff x="6102720" y="2750760"/>
                  <a:chExt cx="739080" cy="11880"/>
                </a:xfrm>
              </p:grpSpPr>
              <p:cxnSp>
                <p:nvCxnSpPr>
                  <p:cNvPr id="192" name="AutoShape 173"/>
                  <p:cNvCxnSpPr/>
                  <p:nvPr/>
                </p:nvCxnSpPr>
                <p:spPr>
                  <a:xfrm flipV="1">
                    <a:off x="6102720" y="2750760"/>
                    <a:ext cx="739440" cy="122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193" name=""/>
                  <p:cNvSpPr txBox="1"/>
                  <p:nvPr/>
                </p:nvSpPr>
                <p:spPr>
                  <a:xfrm rot="10800000">
                    <a:off x="6102720" y="2751120"/>
                    <a:ext cx="738720" cy="11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35280" bIns="-352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94" name=""/>
                <p:cNvGrpSpPr/>
                <p:nvPr/>
              </p:nvGrpSpPr>
              <p:grpSpPr>
                <a:xfrm>
                  <a:off x="1861920" y="4011840"/>
                  <a:ext cx="922320" cy="1080"/>
                  <a:chOff x="1861920" y="4011840"/>
                  <a:chExt cx="922320" cy="1080"/>
                </a:xfrm>
              </p:grpSpPr>
              <p:cxnSp>
                <p:nvCxnSpPr>
                  <p:cNvPr id="195" name="AutoShape 174"/>
                  <p:cNvCxnSpPr/>
                  <p:nvPr/>
                </p:nvCxnSpPr>
                <p:spPr>
                  <a:xfrm>
                    <a:off x="1861920" y="4011840"/>
                    <a:ext cx="92268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196" name=""/>
                  <p:cNvSpPr txBox="1"/>
                  <p:nvPr/>
                </p:nvSpPr>
                <p:spPr>
                  <a:xfrm>
                    <a:off x="1861920" y="4011840"/>
                    <a:ext cx="92196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97" name=""/>
                <p:cNvGrpSpPr/>
                <p:nvPr/>
              </p:nvGrpSpPr>
              <p:grpSpPr>
                <a:xfrm>
                  <a:off x="3889440" y="4007160"/>
                  <a:ext cx="923400" cy="5400"/>
                  <a:chOff x="3889440" y="4007160"/>
                  <a:chExt cx="923400" cy="5400"/>
                </a:xfrm>
              </p:grpSpPr>
              <p:cxnSp>
                <p:nvCxnSpPr>
                  <p:cNvPr id="198" name="AutoShape 175"/>
                  <p:cNvCxnSpPr/>
                  <p:nvPr/>
                </p:nvCxnSpPr>
                <p:spPr>
                  <a:xfrm flipV="1">
                    <a:off x="3889440" y="4007160"/>
                    <a:ext cx="923760" cy="576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199" name=""/>
                  <p:cNvSpPr txBox="1"/>
                  <p:nvPr/>
                </p:nvSpPr>
                <p:spPr>
                  <a:xfrm rot="10800000">
                    <a:off x="3889440" y="4007520"/>
                    <a:ext cx="923040" cy="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1760" bIns="-417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00" name=""/>
                <p:cNvGrpSpPr/>
                <p:nvPr/>
              </p:nvGrpSpPr>
              <p:grpSpPr>
                <a:xfrm>
                  <a:off x="6101640" y="4007520"/>
                  <a:ext cx="739800" cy="4680"/>
                  <a:chOff x="6101640" y="4007520"/>
                  <a:chExt cx="739800" cy="4680"/>
                </a:xfrm>
              </p:grpSpPr>
              <p:cxnSp>
                <p:nvCxnSpPr>
                  <p:cNvPr id="201" name="AutoShape 176"/>
                  <p:cNvCxnSpPr/>
                  <p:nvPr/>
                </p:nvCxnSpPr>
                <p:spPr>
                  <a:xfrm>
                    <a:off x="6101640" y="4007520"/>
                    <a:ext cx="740160" cy="50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202" name=""/>
                  <p:cNvSpPr txBox="1"/>
                  <p:nvPr/>
                </p:nvSpPr>
                <p:spPr>
                  <a:xfrm>
                    <a:off x="6101640" y="4007520"/>
                    <a:ext cx="739440" cy="4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2480" bIns="-424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203" name="Oval 177"/>
                <p:cNvSpPr/>
                <p:nvPr/>
              </p:nvSpPr>
              <p:spPr>
                <a:xfrm>
                  <a:off x="4812840" y="5052960"/>
                  <a:ext cx="1106280" cy="4996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认知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04" name=""/>
                <p:cNvGrpSpPr/>
                <p:nvPr/>
              </p:nvGrpSpPr>
              <p:grpSpPr>
                <a:xfrm>
                  <a:off x="2042280" y="5288400"/>
                  <a:ext cx="741960" cy="1080"/>
                  <a:chOff x="2042280" y="5288400"/>
                  <a:chExt cx="741960" cy="1080"/>
                </a:xfrm>
              </p:grpSpPr>
              <p:cxnSp>
                <p:nvCxnSpPr>
                  <p:cNvPr id="205" name="AutoShape 178"/>
                  <p:cNvCxnSpPr/>
                  <p:nvPr/>
                </p:nvCxnSpPr>
                <p:spPr>
                  <a:xfrm flipV="1">
                    <a:off x="2042280" y="5288400"/>
                    <a:ext cx="74232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206" name=""/>
                  <p:cNvSpPr txBox="1"/>
                  <p:nvPr/>
                </p:nvSpPr>
                <p:spPr>
                  <a:xfrm rot="10800000">
                    <a:off x="2042280" y="5288760"/>
                    <a:ext cx="74160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07" name=""/>
                <p:cNvGrpSpPr/>
                <p:nvPr/>
              </p:nvGrpSpPr>
              <p:grpSpPr>
                <a:xfrm>
                  <a:off x="3889440" y="5288760"/>
                  <a:ext cx="923400" cy="14760"/>
                  <a:chOff x="3889440" y="5288760"/>
                  <a:chExt cx="923400" cy="14760"/>
                </a:xfrm>
              </p:grpSpPr>
              <p:cxnSp>
                <p:nvCxnSpPr>
                  <p:cNvPr id="208" name="AutoShape 179"/>
                  <p:cNvCxnSpPr/>
                  <p:nvPr/>
                </p:nvCxnSpPr>
                <p:spPr>
                  <a:xfrm>
                    <a:off x="3889440" y="5288760"/>
                    <a:ext cx="923760" cy="1512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209" name=""/>
                  <p:cNvSpPr txBox="1"/>
                  <p:nvPr/>
                </p:nvSpPr>
                <p:spPr>
                  <a:xfrm>
                    <a:off x="3889440" y="5288760"/>
                    <a:ext cx="923040" cy="14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32400" bIns="-324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10" name=""/>
                <p:cNvGrpSpPr/>
                <p:nvPr/>
              </p:nvGrpSpPr>
              <p:grpSpPr>
                <a:xfrm>
                  <a:off x="5918760" y="5293800"/>
                  <a:ext cx="922680" cy="9720"/>
                  <a:chOff x="5918760" y="5293800"/>
                  <a:chExt cx="922680" cy="9720"/>
                </a:xfrm>
              </p:grpSpPr>
              <p:cxnSp>
                <p:nvCxnSpPr>
                  <p:cNvPr id="211" name="AutoShape 180"/>
                  <p:cNvCxnSpPr/>
                  <p:nvPr/>
                </p:nvCxnSpPr>
                <p:spPr>
                  <a:xfrm flipV="1">
                    <a:off x="5919120" y="5293800"/>
                    <a:ext cx="922680" cy="100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212" name=""/>
                  <p:cNvSpPr txBox="1"/>
                  <p:nvPr/>
                </p:nvSpPr>
                <p:spPr>
                  <a:xfrm rot="10800000">
                    <a:off x="5918760" y="5294160"/>
                    <a:ext cx="921960" cy="9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37440" bIns="-37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</p:grpSp>
        <p:sp>
          <p:nvSpPr>
            <p:cNvPr id="213" name="Rectangle 181"/>
            <p:cNvSpPr/>
            <p:nvPr/>
          </p:nvSpPr>
          <p:spPr>
            <a:xfrm>
              <a:off x="859680" y="2156760"/>
              <a:ext cx="1409040" cy="35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标准学习层级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Rectangle 182"/>
            <p:cNvSpPr/>
            <p:nvPr/>
          </p:nvSpPr>
          <p:spPr>
            <a:xfrm>
              <a:off x="911880" y="3378960"/>
              <a:ext cx="1409040" cy="35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低介入层级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Rectangle 183"/>
            <p:cNvSpPr/>
            <p:nvPr/>
          </p:nvSpPr>
          <p:spPr>
            <a:xfrm>
              <a:off x="898920" y="4540320"/>
              <a:ext cx="1409040" cy="35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经验层级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DCEEA-5E09-4E32-B7E8-542365480F2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的态度构成与功能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042920" y="2060640"/>
            <a:ext cx="778824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态度的功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适应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识别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表现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卫功能    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5FBC0-4CFD-43AA-883D-34C621000C4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消费者态度的模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692000" y="1915920"/>
            <a:ext cx="699444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多属性态度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理性行为理论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755EF-8BF6-4FCF-973F-799FD05B575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消费者态度的模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0920" y="1268280"/>
            <a:ext cx="77058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多属性态度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三个要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属性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ttribute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信念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eliefs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重要性权重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Importance Weights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119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费舍宾模型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Fishbein Model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j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∑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j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00412-BFC0-4053-9E93-0EB7F6690C0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75438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消费者态度的模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620640"/>
            <a:ext cx="699444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理性行为理论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8459640" cy="4546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2T14:49:34Z</dcterms:created>
  <dc:creator>zhangbo</dc:creator>
  <dc:description/>
  <dc:language>en-US</dc:language>
  <cp:lastModifiedBy>Administrator</cp:lastModifiedBy>
  <dcterms:modified xsi:type="dcterms:W3CDTF">2015-09-02T10:25:42Z</dcterms:modified>
  <cp:revision>25</cp:revision>
  <dc:subject/>
  <dc:title>第四章 消费者的态度的形成、改变与测量</dc:title>
</cp:coreProperties>
</file>